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CDF1E-1D8E-41FC-A4C3-2787D01F210A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8A6CD-E3A2-4B65-9CDE-2E9A82C1C52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tte session présente sous une forme condensée l’ensemble des preuves qui seront mises à la disposition des particip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92AF0-A452-4A9E-81DA-F35FB1769CB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dix premiers e-mails correspondent aux échanges qui ont eu lieu entre les responsables et employés de la FBA et d’UBP qui se sont occupés des transactions et du contrat relatifs à l’impression des obligations anniversa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contrat FBA – UBP établi à la suite de ces échanges donne un aperçu du cadre commercial dans lequel a été conclu le marché et contient des dispositions qui vont être cruciales dans la suite du développement de l’affa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1CB26-7BC0-49B5-9754-047FE2A3FC3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relevés bancaires suivent la chronologie de l’affaire. Les participants pourront appliquer le principe consistant à « suivre l’argent » en analysant les relevés bancaires de la FBA et d’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facture pro forma est une facture légitime présentée à la FBA par UBP pour un paiement anticipé de 100 000 €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BE60C-3196-4101-8248-2102EB19C1A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concernant la deuxièm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1A40F4-BDCB-4203-BE74-B57A6524F0A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onzième e-mail et les échanges suivants sont les outils de la perpétration. Ils ont été rédigés par l’auteur de l’infraction et incluent les éléments nécessaires pour l’analy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fausse facture a été établie par l’auteur et dirige le transfert d’argent vers un compte bancaire bien réel, mais ouvert à des fins fraudule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E9665-D1AD-4446-BB1A-AA4900F5C23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épositions des chefs de départements de la FBA impliqués dans l’affaire à différents stades. Les dépositions les plus importantes sont celles du département financier et du département informatique car elles donnent des indices ou des explications sur la manière dont l’infraction a été perpétré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999C9-C510-4EE7-B0F5-DD22D475982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sur la troisièm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5CB11-26D9-4094-A955-DF1E740DE24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ns un premier temps, le travail d’investigation se fera en groupes, à partir des éléments fournis dans les suppor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48689-84C5-4DFF-9AC3-7489B2FEE51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ns un premier temps, le travail d’investigation se fera en groupes, à partir des éléments fournis dans les suppor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9DD82-EFFB-4667-BC33-AE80C4C1B55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première partie du diaporama expose les faits initiaux contenus dans les documen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deuxième partie présente la structure de l’affa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troisième partie est consacrée à la perpétration de l’infr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quatrième partie fournit les éléments de base pour le début des investigations et du travail des particip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cinquième et dernière partie fait la synthèse de tous les éléments présenté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E798C-CCB4-41E1-88A6-941A7E3FD3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ns un premier temps, le travail d’investigation se fera en groupes, à partir des éléments fournis dans les suppor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12F57-31C9-4CD5-99C2-D0DCC4DD5F1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sur la quatrièm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A837CA-4008-40CF-98A1-1313522A89E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21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120A1-EDAE-4C3B-92A3-574F4CD7CAF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concernant le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AF83C-E07A-4A28-BF2D-12F10EE5503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6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B264F-C79C-4713-8101-758D41308F1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scénario met en scène la Federal Bank of Atlantis (FBA) présentée comme une banque internationale ancienne et à la réputation bien établie. La description qui en est faite devrait amener les participants à conclure que ce type de banque devrait en principe être à l’abri des problèmes, a fortiori tels que ceux qui seront décrits plus loin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A1B64-920F-4176-95C8-BEAC8B3935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fil des entreprises impliquées dans le scénario de l’étude de cas. Trois documents Word en format 97-2003 sont inclus dans les supports. Ils seront mis à la disposition des participants en version papier ou en version électronique si les circonstances le permettent et si tous les participants ont un accès individuel à un ordinat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7F71B-F295-4A08-962E-A8BC6693A11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cuments connexes. Les supports contiennent trois documents Word en format 97-2003. Ils seront mis à la disposition des participants en version papier ou en version électronique si les circonstances le permettent et si tous les participants ont un accès individuel à un ordinat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CFCA2-873B-41DE-9CA9-BF7740E133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concernant la premièr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3790C-6167-43AB-A00D-73B664648EF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072-98D8-4675-8F11-9C6A95DA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987-15DA-4E86-9CE3-ECFF22DE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1054-5EAB-485C-8282-E919A393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3B8-C1C5-4172-BE3F-C4B6EA1A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D02F-8CE6-43A7-B585-8A2D2BD7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46FA-E0DD-4C63-97AA-1EBFC8BB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C1E7-7616-4DCB-ACFC-EF353F3E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F578-85C8-4CD8-ADC2-90A0CA93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9B3A-07F1-4C49-B7FC-3CA1C4DB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9A1E-5D5F-4C62-B4BB-279EF7FA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53FE-E6D1-44AB-822A-FD625D03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7810-4F4E-4187-BF83-7F118731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B992-B3D9-40D4-B729-9950E30C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41A0-60D2-4724-982E-813C47F4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E979-7857-4FAF-A6B3-11FFF3FE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BA8C-5DE9-4534-87F2-EFF4C4D4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4019-2FD2-40A9-9A74-12144B1F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7E0-C8DA-4181-B912-9CD34C40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628-0A1C-4A06-82FE-466172CE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84B-AFF4-4D61-B871-A342248D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856-A5A5-4CDE-81FE-C51858C8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B44-DCBB-46B7-8E3F-0B6EE9E8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A45-D8D1-4DE7-828B-38C505E6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0FB-7802-4E89-925A-E9B44345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036F7-4D34-4D88-B475-788728C8A2D8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BD4E9-8DAD-4065-B12E-C338EC84A7D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DAA07-05BF-42A0-9A63-68F3C4BE5555}" type="datetime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93156-AAF9-4EF1-9201-8DF7050697E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ybercriminalité : formation complémentaire pour les juges et les procure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Session 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ésentation générale des preuves relatives à l’étude de 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50C15-3907-4257-BB26-4097EE102E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44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-mails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Échange d’emails entre la FBA et l’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e-mails fournis suivent la chronologie des échanges entre les donneurs d’ordre et les responsables de l’émission de l’obligation anniversaire au sein de la FBA et d’UBP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Documents et rapports »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 contrat entre la FBA et UBP donne un éclairage supplémentaire et permet une analyse plus poussée, mais il sert aussi de preuve à l’appui du doss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éveloppement de l'aff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E02A7-C3EC-4D80-8172-7AA17882CC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relevés banc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elevé bancaire de la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e nombreuses transactions y figurent, parmi lesquelles le paiement anticipé de 100 000 EUR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elevé bancaire d’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a Docklands Securities Bank of Norland gère les transactions bancaires d’United Bank Printing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Facture pro-forma d’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une facture pro forma d’un montant de 100 000 EUR a été présentée à la FBA par UP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éveloppement de l’aff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BCCC4-83C0-44E7-BD3B-E6B9FD97761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CDF72-72BC-47B0-AA57-306EC16D301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6228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artie 3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erpétration - preuves et dépositions de témo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74854-7FF0-44FC-B35F-648ACF917A1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erpé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-mails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 onzième e-mail et l’échange qui suit est le moment clé de la perpétration de l’infraction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Relevés bancaires »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a fausse facture d’UBP contient les coordonnées d’un compte bancaire frauduleux et demande le règlement du solde restant dû de 200 000 EUR pour finaliser l’impression des 20 000 obligation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C46C5-AD84-4DE5-80B8-AA67105BFBD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erpé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Dépositions de témoins »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partement de la Logistique et des opérations (DLO) de la FBA 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partement financier de la FBA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partement informatique de la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4A73F2-935C-43A6-A516-91AD2469BD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66F67-53B8-4BB6-B809-C63153767F8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atrième partie :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51D34-1D32-455C-9A1D-8800C7DA1FA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nace persistante avanc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type de piratage informatique continu et furtif, souvent orchestré par une personne ou un groupe de personnes ciblant une entité spécifique »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BF28F-DCCE-4B14-B7BD-424D2DDB982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rypto-monna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« 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ctif numérique conçu pour fonctionner comme un moyen d’échange qui utilise la cryptographie pour sécuriser les transactions et contrôler la création d’unités supplémentaires de la devise »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84412-9E86-4A9C-A98A-27EA92B2B2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remièr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Introduction et faits initia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Deuxièm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éveloppement de l’affa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Troisièm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erpétration et dépositions de témo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Quatrième par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Cinquièm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ésum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8C23D-2E54-4F44-9059-EA4EF1FA520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anipulation psychologique en ligne (Cyber Social Engineer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« 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type d'escroquerie ayant pour but la collecte d’informations, le détournement de fonds ou l’accès à un système ; elle diffère des formes traditionnelles d’escroquerie en cela qu’elle s’inscrit souvent dans un stratagème de fraude plus vaste et plus complex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3098880" y="4782960"/>
            <a:ext cx="29462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070D5-17F6-4B21-BEB8-F7821FC7BC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5A604-3217-4816-9CB9-E1A5BCA9D0F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353960"/>
            <a:ext cx="85122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À l’issue de cette session, les participants devraient avoir atteint les objectifs suivant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’introduction et les premiers éléments de l’affaire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e développement de l’affaire en analysant les preuves électroniques et matérielles présenté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uivre la perpétration proprement dite et trouver d’autres faits dans les dépositions de témoin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nnaître les termes et définitions-clés relatifs aux outils de la cybercriminalité, dont ceux utilisés en l’espè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bjectifs de la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76773-3E3E-45D5-B57A-6FA2DB5183D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D9776-8F90-44F2-8EFD-834ECBE40DB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353600"/>
            <a:ext cx="8512200" cy="509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À l’issue de cette session, les participants devraient avoir atteint les objectifs suivant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’introduction et les premiers éléments de l’affair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e développement de l’affaire en analysant les preuves électroniques et matérielles présentées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uivre la perpétration proprement dite et trouver d’autres faits dans les dépositions de témoin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nnaître les termes et définitions-clés relatifs aux outils de la cybercriminalité, dont ceux utilisés en l’espè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bjectifs de la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2DA16-A837-4CBD-91D1-0337F3B4ECF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artie 1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Introduction et faits init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632E2-BBA1-462B-904B-846551BD9EF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»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ynopsis de l’étude de 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cénario de l’étude de cas correspond au phénomène récent des attaques dites « BEC » pour « Business E-mail Compromise » (piratage de la messagerie d'entreprise), dérivées des escroqueries « au président » ou au « faux-intermédiaire » déjà connu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mpleur de ces escroqueries est énorme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7CAE8-6200-4334-B83F-076C60342E9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profils »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fil de l’entreprise 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Présentation générale, structure et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fil de l’entreprise 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Présentation générale, structure et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fil de l’entreprise Doc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sentation générale, structure et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Faits init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DB5BD-3330-456F-A089-F57F542F209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Documents et rapports »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nnonce de l’obligation anniversaire par la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cision du conseil d’administration d’émettre des obligations et éléments financiers correspondant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ligation annivers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maquette de l’obligation, y compris éléments imprimés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ntrat FBA –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contrat d’impression de 20 000 éléments pour l’obligation anniversaire de la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Faits init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27E07-0107-4D89-9C5D-D225373E5DF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BCBAC-F95F-45EF-B51E-AC808D97AFC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artie 2 :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éveloppement de l’affa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cp:keywords/>
  <dc:language>en-US</dc:language>
  <cp:lastModifiedBy>CAROLINE MARTIN</cp:lastModifiedBy>
  <dcterms:modified xsi:type="dcterms:W3CDTF">2018-06-01T08:13:37Z</dcterms:modified>
  <cp:revision>187</cp:revision>
  <dc:subject/>
  <dc:title>Introductory Cybercrime Training for Judges and Prosecutors</dc:title>
</cp:coreProperties>
</file>